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highchime.wav" ContentType="audio/x-wav"/>
  <Override PartName="/ppt/media/caralarmoff.wav" ContentType="audio/x-wav"/>
  <Override PartName="/ppt/media/lzipup01.wav" ContentType="audio/x-wav"/>
  <Override PartName="/ppt/media/jetflyby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22B-AE7D-4D9D-8E9E-DC499249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6F1-4189-48F4-B0B0-02DE8F7E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5142-63A4-423E-8954-ED8B2BF2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75C-B472-48D4-8EFB-B9E490BE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A878-51FD-4FD8-A06B-EED9E582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2379-3566-4B5F-8555-33E749C8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0FA-69F5-4B97-A280-C758C5E6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9C9-C66D-4541-A170-8BBFC816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94A3-D707-4427-A496-663056CD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DF46-1430-495E-91DF-BC0619EA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F80C-C2C1-4742-9C01-10132F46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58D-983D-4807-BE46-6A205981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A396-BD73-430F-A516-744C7E716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caralarmoff.wav"/><Relationship Id="rId14" Type="http://schemas.openxmlformats.org/officeDocument/2006/relationships/audio" Target="../media/highchime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ipdn102.wav"/><Relationship Id="rId18" Type="http://schemas.openxmlformats.org/officeDocument/2006/relationships/audio" Target="../media/zipdn102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audio" Target="../media/zipdn102.wav"/><Relationship Id="rId22" Type="http://schemas.openxmlformats.org/officeDocument/2006/relationships/audio" Target="../media/zipdn102.wav"/><Relationship Id="rId23" Type="http://schemas.openxmlformats.org/officeDocument/2006/relationships/audio" Target="../media/caralarmoff.wav"/><Relationship Id="rId24" Type="http://schemas.openxmlformats.org/officeDocument/2006/relationships/audio" Target="../media/zipdn102.wav"/><Relationship Id="rId25" Type="http://schemas.openxmlformats.org/officeDocument/2006/relationships/audio" Target="../media/jetflyby2.wav"/><Relationship Id="rId26" Type="http://schemas.openxmlformats.org/officeDocument/2006/relationships/audio" Target="../media/jetflyby2.wav"/><Relationship Id="rId27" Type="http://schemas.openxmlformats.org/officeDocument/2006/relationships/audio" Target="../media/zapbig0g.wav"/><Relationship Id="rId28" Type="http://schemas.openxmlformats.org/officeDocument/2006/relationships/audio" Target="../media/zapbig0g.wav"/><Relationship Id="rId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caralarmoff.wav"/><Relationship Id="rId13" Type="http://schemas.openxmlformats.org/officeDocument/2006/relationships/audio" Target="../media/highchime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zipdn102.wav"/><Relationship Id="rId17" Type="http://schemas.openxmlformats.org/officeDocument/2006/relationships/audio" Target="../media/zipdn102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zipdn102.wav"/><Relationship Id="rId21" Type="http://schemas.openxmlformats.org/officeDocument/2006/relationships/audio" Target="../media/zipdn102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audio" Target="../media/zipdn102.wav"/><Relationship Id="rId25" Type="http://schemas.openxmlformats.org/officeDocument/2006/relationships/audio" Target="../media/zipdn102.wav"/><Relationship Id="rId26" Type="http://schemas.openxmlformats.org/officeDocument/2006/relationships/audio" Target="../media/caralarmoff.wav"/><Relationship Id="rId27" Type="http://schemas.openxmlformats.org/officeDocument/2006/relationships/audio" Target="../media/zipdn102.wav"/><Relationship Id="rId28" Type="http://schemas.openxmlformats.org/officeDocument/2006/relationships/audio" Target="../media/jetflyby2.wav"/><Relationship Id="rId29" Type="http://schemas.openxmlformats.org/officeDocument/2006/relationships/audio" Target="../media/jetflyby2.wav"/><Relationship Id="rId30" Type="http://schemas.openxmlformats.org/officeDocument/2006/relationships/audio" Target="../media/zapbig0g.wav"/><Relationship Id="rId31" Type="http://schemas.openxmlformats.org/officeDocument/2006/relationships/audio" Target="../media/zapbig0g.wav"/><Relationship Id="rId3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audio" Target="../media/caralarmoff.wav"/><Relationship Id="rId17" Type="http://schemas.openxmlformats.org/officeDocument/2006/relationships/audio" Target="../media/caralarmoff.wav"/><Relationship Id="rId18" Type="http://schemas.openxmlformats.org/officeDocument/2006/relationships/audio" Target="../media/highchime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audio" Target="../media/zipdn102.wav"/><Relationship Id="rId22" Type="http://schemas.openxmlformats.org/officeDocument/2006/relationships/audio" Target="../media/zipdn102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zipdn102.wav"/><Relationship Id="rId26" Type="http://schemas.openxmlformats.org/officeDocument/2006/relationships/audio" Target="../media/zipdn102.wav"/><Relationship Id="rId27" Type="http://schemas.openxmlformats.org/officeDocument/2006/relationships/audio" Target="../media/zapbig0g.wav"/><Relationship Id="rId28" Type="http://schemas.openxmlformats.org/officeDocument/2006/relationships/audio" Target="../media/zapbig0g.wav"/><Relationship Id="rId29" Type="http://schemas.openxmlformats.org/officeDocument/2006/relationships/audio" Target="../media/zipdn102.wav"/><Relationship Id="rId30" Type="http://schemas.openxmlformats.org/officeDocument/2006/relationships/audio" Target="../media/zipdn102.wav"/><Relationship Id="rId31" Type="http://schemas.openxmlformats.org/officeDocument/2006/relationships/audio" Target="../media/caralarmoff.wav"/><Relationship Id="rId32" Type="http://schemas.openxmlformats.org/officeDocument/2006/relationships/audio" Target="../media/caralarmoff.wav"/><Relationship Id="rId33" Type="http://schemas.openxmlformats.org/officeDocument/2006/relationships/audio" Target="../media/zipdn102.wav"/><Relationship Id="rId34" Type="http://schemas.openxmlformats.org/officeDocument/2006/relationships/audio" Target="../media/jetflyby2.wav"/><Relationship Id="rId35" Type="http://schemas.openxmlformats.org/officeDocument/2006/relationships/audio" Target="../media/jetflyby2.wav"/><Relationship Id="rId36" Type="http://schemas.openxmlformats.org/officeDocument/2006/relationships/audio" Target="../media/jetflyby2.wav"/><Relationship Id="rId37" Type="http://schemas.openxmlformats.org/officeDocument/2006/relationships/audio" Target="../media/jetflyby2.wav"/><Relationship Id="rId38" Type="http://schemas.openxmlformats.org/officeDocument/2006/relationships/audio" Target="../media/zapbig0g.wav"/><Relationship Id="rId39" Type="http://schemas.openxmlformats.org/officeDocument/2006/relationships/audio" Target="../media/zapbig0g.wav"/><Relationship Id="rId4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ipdn102.wav"/><Relationship Id="rId16" Type="http://schemas.openxmlformats.org/officeDocument/2006/relationships/audio" Target="../media/zipdn102.wav"/><Relationship Id="rId17" Type="http://schemas.openxmlformats.org/officeDocument/2006/relationships/audio" Target="../media/caralarmoff.wav"/><Relationship Id="rId18" Type="http://schemas.openxmlformats.org/officeDocument/2006/relationships/audio" Target="../media/highchime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audio" Target="../media/zipdn102.wav"/><Relationship Id="rId22" Type="http://schemas.openxmlformats.org/officeDocument/2006/relationships/audio" Target="../media/zipdn102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zipdn102.wav"/><Relationship Id="rId26" Type="http://schemas.openxmlformats.org/officeDocument/2006/relationships/audio" Target="../media/zipdn102.wav"/><Relationship Id="rId27" Type="http://schemas.openxmlformats.org/officeDocument/2006/relationships/audio" Target="../media/zapbig0g.wav"/><Relationship Id="rId28" Type="http://schemas.openxmlformats.org/officeDocument/2006/relationships/audio" Target="../media/zapbig0g.wav"/><Relationship Id="rId29" Type="http://schemas.openxmlformats.org/officeDocument/2006/relationships/audio" Target="../media/zipdn102.wav"/><Relationship Id="rId30" Type="http://schemas.openxmlformats.org/officeDocument/2006/relationships/audio" Target="../media/zipdn102.wav"/><Relationship Id="rId31" Type="http://schemas.openxmlformats.org/officeDocument/2006/relationships/audio" Target="../media/caralarmoff.wav"/><Relationship Id="rId32" Type="http://schemas.openxmlformats.org/officeDocument/2006/relationships/audio" Target="../media/zipdn102.wav"/><Relationship Id="rId33" Type="http://schemas.openxmlformats.org/officeDocument/2006/relationships/audio" Target="../media/jetflyby2.wav"/><Relationship Id="rId34" Type="http://schemas.openxmlformats.org/officeDocument/2006/relationships/audio" Target="../media/jetflyby2.wav"/><Relationship Id="rId35" Type="http://schemas.openxmlformats.org/officeDocument/2006/relationships/audio" Target="../media/zapbig0g.wav"/><Relationship Id="rId36" Type="http://schemas.openxmlformats.org/officeDocument/2006/relationships/audio" Target="../media/zapbig0g.wav"/><Relationship Id="rId37" Type="http://schemas.openxmlformats.org/officeDocument/2006/relationships/audio" Target="../media/zapbig0g.wav"/><Relationship Id="rId3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caralarmoff.wav"/><Relationship Id="rId13" Type="http://schemas.openxmlformats.org/officeDocument/2006/relationships/audio" Target="../media/highchime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zipdn102.wav"/><Relationship Id="rId17" Type="http://schemas.openxmlformats.org/officeDocument/2006/relationships/audio" Target="../media/zipdn102.wav"/><Relationship Id="rId18" Type="http://schemas.openxmlformats.org/officeDocument/2006/relationships/audio" Target="../media/caralarmoff.wav"/><Relationship Id="rId19" Type="http://schemas.openxmlformats.org/officeDocument/2006/relationships/audio" Target="../media/zipdn102.wav"/><Relationship Id="rId20" Type="http://schemas.openxmlformats.org/officeDocument/2006/relationships/audio" Target="../media/jetflyby2.wav"/><Relationship Id="rId21" Type="http://schemas.openxmlformats.org/officeDocument/2006/relationships/audio" Target="../media/zapbig0g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caralarmoff.wav"/><Relationship Id="rId9" Type="http://schemas.openxmlformats.org/officeDocument/2006/relationships/audio" Target="../media/caralarmoff.wav"/><Relationship Id="rId10" Type="http://schemas.openxmlformats.org/officeDocument/2006/relationships/audio" Target="../media/highchime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ipdn102.wav"/><Relationship Id="rId14" Type="http://schemas.openxmlformats.org/officeDocument/2006/relationships/audio" Target="../media/zipdn102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ipdn102.wav"/><Relationship Id="rId18" Type="http://schemas.openxmlformats.org/officeDocument/2006/relationships/audio" Target="../media/zipdn102.wav"/><Relationship Id="rId19" Type="http://schemas.openxmlformats.org/officeDocument/2006/relationships/audio" Target="../media/caralarmoff.wav"/><Relationship Id="rId20" Type="http://schemas.openxmlformats.org/officeDocument/2006/relationships/audio" Target="../media/caralarmoff.wav"/><Relationship Id="rId21" Type="http://schemas.openxmlformats.org/officeDocument/2006/relationships/audio" Target="../media/zipdn102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audio" Target="../media/zapbig0g.wav"/><Relationship Id="rId26" Type="http://schemas.openxmlformats.org/officeDocument/2006/relationships/audio" Target="../media/zapbig0g.wav"/><Relationship Id="rId27" Type="http://schemas.openxmlformats.org/officeDocument/2006/relationships/audio" Target="../media/zapbig0g.wav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GCF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0956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Use prime factorization to find the </a:t>
            </a: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GCF</a:t>
            </a: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 of each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69880" y="3846600"/>
            <a:ext cx="9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8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2"/>
          </p:cNvCxnSpPr>
          <p:nvPr/>
        </p:nvCxnSpPr>
        <p:spPr>
          <a:xfrm flipV="1">
            <a:off x="1934280" y="5328000"/>
            <a:ext cx="655200" cy="258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" name=""/>
          <p:cNvCxnSpPr>
            <a:stCxn id="43" idx="2"/>
          </p:cNvCxnSpPr>
          <p:nvPr/>
        </p:nvCxnSpPr>
        <p:spPr>
          <a:xfrm flipH="1" flipV="1">
            <a:off x="1254960" y="5319720"/>
            <a:ext cx="679680" cy="267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027080" y="5319720"/>
                <a:ext cx="457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381400" y="532764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438280" y="1216080"/>
                <a:ext cx="22482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465280" y="2039760"/>
                <a:ext cx="22449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0" name=""/>
          <p:cNvCxnSpPr/>
          <p:nvPr/>
        </p:nvCxnSpPr>
        <p:spPr>
          <a:xfrm>
            <a:off x="2589120" y="5945040"/>
            <a:ext cx="42480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" name=""/>
          <p:cNvCxnSpPr/>
          <p:nvPr/>
        </p:nvCxnSpPr>
        <p:spPr>
          <a:xfrm flipH="1">
            <a:off x="2188440" y="5945040"/>
            <a:ext cx="400680" cy="316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900080" y="623268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927520" y="6230880"/>
                <a:ext cx="4125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511200" y="1116000"/>
            <a:ext cx="19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8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33360" y="1892160"/>
            <a:ext cx="99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7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8280" y="3854520"/>
            <a:ext cx="92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7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2"/>
          </p:cNvCxnSpPr>
          <p:nvPr/>
        </p:nvCxnSpPr>
        <p:spPr>
          <a:xfrm flipV="1">
            <a:off x="4612320" y="5335920"/>
            <a:ext cx="655560" cy="258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6" idx="2"/>
          </p:cNvCxnSpPr>
          <p:nvPr/>
        </p:nvCxnSpPr>
        <p:spPr>
          <a:xfrm flipH="1" flipV="1">
            <a:off x="3933360" y="5327640"/>
            <a:ext cx="679320" cy="267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726000" y="5307120"/>
                <a:ext cx="4158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059440" y="533556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1" name=""/>
          <p:cNvCxnSpPr/>
          <p:nvPr/>
        </p:nvCxnSpPr>
        <p:spPr>
          <a:xfrm>
            <a:off x="5267160" y="5952960"/>
            <a:ext cx="42480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" name=""/>
          <p:cNvCxnSpPr/>
          <p:nvPr/>
        </p:nvCxnSpPr>
        <p:spPr>
          <a:xfrm flipH="1">
            <a:off x="4866480" y="5952960"/>
            <a:ext cx="400680" cy="316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578480" y="624060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605560" y="6238800"/>
                <a:ext cx="4125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3541680" y="1176480"/>
            <a:ext cx="55080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57640" y="1139760"/>
            <a:ext cx="55080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31840" y="28591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GCF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057480" y="2917800"/>
                <a:ext cx="1076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272120" y="2911320"/>
                <a:ext cx="9824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GCF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0956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Use prime factorization to find the </a:t>
            </a: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GCF</a:t>
            </a: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 of each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8640" y="3855960"/>
            <a:ext cx="9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0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2" idx="2"/>
          </p:cNvCxnSpPr>
          <p:nvPr/>
        </p:nvCxnSpPr>
        <p:spPr>
          <a:xfrm>
            <a:off x="1193400" y="4770360"/>
            <a:ext cx="65484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4" name=""/>
          <p:cNvCxnSpPr>
            <a:stCxn id="72" idx="2"/>
          </p:cNvCxnSpPr>
          <p:nvPr/>
        </p:nvCxnSpPr>
        <p:spPr>
          <a:xfrm flipH="1">
            <a:off x="513720" y="4770360"/>
            <a:ext cx="68004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85840" y="5308560"/>
                <a:ext cx="4572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515960" y="5337000"/>
                <a:ext cx="66384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92200" y="1216080"/>
                <a:ext cx="2341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397240" y="2054160"/>
                <a:ext cx="2992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9" name=""/>
          <p:cNvCxnSpPr/>
          <p:nvPr/>
        </p:nvCxnSpPr>
        <p:spPr>
          <a:xfrm>
            <a:off x="1847520" y="5954760"/>
            <a:ext cx="42444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0" name=""/>
          <p:cNvCxnSpPr/>
          <p:nvPr/>
        </p:nvCxnSpPr>
        <p:spPr>
          <a:xfrm flipH="1">
            <a:off x="1447200" y="5954400"/>
            <a:ext cx="400680" cy="31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138320" y="6262560"/>
                <a:ext cx="455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185920" y="6240600"/>
                <a:ext cx="4129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511200" y="1116000"/>
            <a:ext cx="19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. 70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33360" y="1892160"/>
            <a:ext cx="99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0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48280" y="3854520"/>
            <a:ext cx="92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0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2"/>
          </p:cNvCxnSpPr>
          <p:nvPr/>
        </p:nvCxnSpPr>
        <p:spPr>
          <a:xfrm>
            <a:off x="4613400" y="4768920"/>
            <a:ext cx="65448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85" idx="2"/>
          </p:cNvCxnSpPr>
          <p:nvPr/>
        </p:nvCxnSpPr>
        <p:spPr>
          <a:xfrm flipH="1">
            <a:off x="3933360" y="4768920"/>
            <a:ext cx="68040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705120" y="5327640"/>
                <a:ext cx="457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935600" y="5335560"/>
                <a:ext cx="6634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0" name=""/>
          <p:cNvCxnSpPr/>
          <p:nvPr/>
        </p:nvCxnSpPr>
        <p:spPr>
          <a:xfrm>
            <a:off x="5386320" y="5954760"/>
            <a:ext cx="42480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1" name=""/>
          <p:cNvCxnSpPr/>
          <p:nvPr/>
        </p:nvCxnSpPr>
        <p:spPr>
          <a:xfrm flipH="1">
            <a:off x="4985640" y="5954400"/>
            <a:ext cx="400680" cy="31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676760" y="6262560"/>
                <a:ext cx="457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724360" y="6240600"/>
                <a:ext cx="4129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859120" y="1176480"/>
            <a:ext cx="55080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8393600">
            <a:off x="4103280" y="836640"/>
            <a:ext cx="765360" cy="22413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31840" y="28591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GCF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35160" y="2917800"/>
                <a:ext cx="11224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32440" y="2911320"/>
                <a:ext cx="12636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9" name=""/>
          <p:cNvCxnSpPr/>
          <p:nvPr/>
        </p:nvCxnSpPr>
        <p:spPr>
          <a:xfrm>
            <a:off x="3920760" y="5954760"/>
            <a:ext cx="42444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0" name=""/>
          <p:cNvCxnSpPr/>
          <p:nvPr/>
        </p:nvCxnSpPr>
        <p:spPr>
          <a:xfrm flipH="1">
            <a:off x="3520440" y="5954400"/>
            <a:ext cx="400680" cy="31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211560" y="6262560"/>
                <a:ext cx="457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238640" y="6261120"/>
                <a:ext cx="453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GCF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0956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Use prime factorization to find the </a:t>
            </a: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GCF</a:t>
            </a: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 of each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12720" y="3855960"/>
            <a:ext cx="9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6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2"/>
          </p:cNvCxnSpPr>
          <p:nvPr/>
        </p:nvCxnSpPr>
        <p:spPr>
          <a:xfrm>
            <a:off x="1978200" y="4770360"/>
            <a:ext cx="65448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105" idx="2"/>
          </p:cNvCxnSpPr>
          <p:nvPr/>
        </p:nvCxnSpPr>
        <p:spPr>
          <a:xfrm flipH="1">
            <a:off x="1298160" y="4770360"/>
            <a:ext cx="68040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90440" y="530856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424240" y="5337000"/>
                <a:ext cx="4143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744640" y="1303200"/>
                <a:ext cx="29498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747880" y="2038320"/>
                <a:ext cx="28987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12" name=""/>
          <p:cNvCxnSpPr/>
          <p:nvPr/>
        </p:nvCxnSpPr>
        <p:spPr>
          <a:xfrm>
            <a:off x="2717640" y="5954760"/>
            <a:ext cx="42480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3" name=""/>
          <p:cNvCxnSpPr/>
          <p:nvPr/>
        </p:nvCxnSpPr>
        <p:spPr>
          <a:xfrm flipH="1">
            <a:off x="2316960" y="5954400"/>
            <a:ext cx="400680" cy="31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08080" y="6262560"/>
                <a:ext cx="455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056040" y="6240600"/>
                <a:ext cx="4125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11200" y="1116000"/>
            <a:ext cx="26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. 36</a:t>
            </a:r>
            <a:r>
              <a:rPr b="0" i="1" lang="en-US" sz="5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33360" y="1892160"/>
            <a:ext cx="129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4</a:t>
            </a:r>
            <a:r>
              <a:rPr b="0" i="1" lang="en-US" sz="5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3854520"/>
            <a:ext cx="9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4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8" idx="2"/>
          </p:cNvCxnSpPr>
          <p:nvPr/>
        </p:nvCxnSpPr>
        <p:spPr>
          <a:xfrm>
            <a:off x="5397120" y="4768920"/>
            <a:ext cx="65484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8" idx="2"/>
          </p:cNvCxnSpPr>
          <p:nvPr/>
        </p:nvCxnSpPr>
        <p:spPr>
          <a:xfrm flipH="1">
            <a:off x="4717440" y="4768920"/>
            <a:ext cx="68004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10080" y="5307120"/>
                <a:ext cx="4158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843520" y="533556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23" name=""/>
          <p:cNvCxnSpPr/>
          <p:nvPr/>
        </p:nvCxnSpPr>
        <p:spPr>
          <a:xfrm>
            <a:off x="6170400" y="5954760"/>
            <a:ext cx="42444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4" name=""/>
          <p:cNvCxnSpPr/>
          <p:nvPr/>
        </p:nvCxnSpPr>
        <p:spPr>
          <a:xfrm flipH="1">
            <a:off x="5770080" y="5954400"/>
            <a:ext cx="401040" cy="31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481720" y="6242040"/>
                <a:ext cx="4158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08800" y="6240600"/>
                <a:ext cx="4125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193920" y="1204920"/>
            <a:ext cx="55116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31840" y="28591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GCF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111480" y="2948040"/>
                <a:ext cx="24796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638680" y="2941560"/>
                <a:ext cx="1590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31" name=""/>
          <p:cNvCxnSpPr/>
          <p:nvPr/>
        </p:nvCxnSpPr>
        <p:spPr>
          <a:xfrm>
            <a:off x="4705200" y="5954760"/>
            <a:ext cx="42480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32" name=""/>
          <p:cNvCxnSpPr/>
          <p:nvPr/>
        </p:nvCxnSpPr>
        <p:spPr>
          <a:xfrm flipH="1">
            <a:off x="4304520" y="5954400"/>
            <a:ext cx="400680" cy="31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995640" y="6262560"/>
                <a:ext cx="457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043600" y="6240600"/>
                <a:ext cx="4125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35" name=""/>
          <p:cNvCxnSpPr/>
          <p:nvPr/>
        </p:nvCxnSpPr>
        <p:spPr>
          <a:xfrm>
            <a:off x="1231560" y="5954760"/>
            <a:ext cx="42444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36" name=""/>
          <p:cNvCxnSpPr/>
          <p:nvPr/>
        </p:nvCxnSpPr>
        <p:spPr>
          <a:xfrm flipH="1">
            <a:off x="831240" y="5954400"/>
            <a:ext cx="400680" cy="31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22360" y="6262560"/>
                <a:ext cx="455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569960" y="6240600"/>
                <a:ext cx="4129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600880" y="1311120"/>
                <a:ext cx="14032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600880" y="2158920"/>
                <a:ext cx="749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4492800" y="1212840"/>
            <a:ext cx="55080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24600" y="1192320"/>
            <a:ext cx="55080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13280" y="1198440"/>
            <a:ext cx="551160" cy="159732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LCM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709560"/>
            <a:ext cx="936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Use prime factorization to find the </a:t>
            </a: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LCM</a:t>
            </a: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 of each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69880" y="3846600"/>
            <a:ext cx="9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6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421000" y="1244520"/>
                <a:ext cx="29512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417760" y="2019240"/>
                <a:ext cx="30402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511200" y="1116000"/>
            <a:ext cx="19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. 36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33360" y="1892160"/>
            <a:ext cx="99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6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72160" y="3854520"/>
            <a:ext cx="92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6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1" idx="2"/>
          </p:cNvCxnSpPr>
          <p:nvPr/>
        </p:nvCxnSpPr>
        <p:spPr>
          <a:xfrm>
            <a:off x="5237280" y="4768920"/>
            <a:ext cx="65448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3" name=""/>
          <p:cNvCxnSpPr>
            <a:stCxn id="151" idx="2"/>
          </p:cNvCxnSpPr>
          <p:nvPr/>
        </p:nvCxnSpPr>
        <p:spPr>
          <a:xfrm flipH="1">
            <a:off x="4557240" y="4768920"/>
            <a:ext cx="68040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329000" y="5327640"/>
                <a:ext cx="457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662440" y="5356080"/>
                <a:ext cx="455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6" name=""/>
          <p:cNvCxnSpPr/>
          <p:nvPr/>
        </p:nvCxnSpPr>
        <p:spPr>
          <a:xfrm>
            <a:off x="5935320" y="5932440"/>
            <a:ext cx="42444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7" name=""/>
          <p:cNvCxnSpPr/>
          <p:nvPr/>
        </p:nvCxnSpPr>
        <p:spPr>
          <a:xfrm flipH="1">
            <a:off x="5535000" y="5932440"/>
            <a:ext cx="400680" cy="316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226120" y="6261120"/>
                <a:ext cx="455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253200" y="6259680"/>
                <a:ext cx="453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2874960" y="1190520"/>
            <a:ext cx="55080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64000" y="1173240"/>
            <a:ext cx="55080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47880" y="2886120"/>
            <a:ext cx="21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LCM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011400" y="2940120"/>
                <a:ext cx="1170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778800" y="2919240"/>
                <a:ext cx="15904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65" name=""/>
          <p:cNvCxnSpPr/>
          <p:nvPr/>
        </p:nvCxnSpPr>
        <p:spPr>
          <a:xfrm>
            <a:off x="1978200" y="4770360"/>
            <a:ext cx="65448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6" name=""/>
          <p:cNvCxnSpPr/>
          <p:nvPr/>
        </p:nvCxnSpPr>
        <p:spPr>
          <a:xfrm flipH="1">
            <a:off x="1298160" y="4770360"/>
            <a:ext cx="68040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90440" y="530856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424240" y="5337000"/>
                <a:ext cx="4143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69" name=""/>
          <p:cNvCxnSpPr/>
          <p:nvPr/>
        </p:nvCxnSpPr>
        <p:spPr>
          <a:xfrm>
            <a:off x="2717640" y="5954760"/>
            <a:ext cx="42480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0" name=""/>
          <p:cNvCxnSpPr/>
          <p:nvPr/>
        </p:nvCxnSpPr>
        <p:spPr>
          <a:xfrm flipH="1">
            <a:off x="2316960" y="5954400"/>
            <a:ext cx="400680" cy="31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008080" y="6262560"/>
                <a:ext cx="455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056040" y="6240600"/>
                <a:ext cx="4125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73" name=""/>
          <p:cNvCxnSpPr/>
          <p:nvPr/>
        </p:nvCxnSpPr>
        <p:spPr>
          <a:xfrm>
            <a:off x="1231560" y="5954760"/>
            <a:ext cx="42444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4" name=""/>
          <p:cNvCxnSpPr/>
          <p:nvPr/>
        </p:nvCxnSpPr>
        <p:spPr>
          <a:xfrm flipH="1">
            <a:off x="831240" y="5954400"/>
            <a:ext cx="400680" cy="31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22360" y="6262560"/>
                <a:ext cx="455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569960" y="6240600"/>
                <a:ext cx="4129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77" name=""/>
          <p:cNvCxnSpPr/>
          <p:nvPr/>
        </p:nvCxnSpPr>
        <p:spPr>
          <a:xfrm>
            <a:off x="4505040" y="5932440"/>
            <a:ext cx="42444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8" name=""/>
          <p:cNvCxnSpPr/>
          <p:nvPr/>
        </p:nvCxnSpPr>
        <p:spPr>
          <a:xfrm flipH="1">
            <a:off x="4104720" y="5932440"/>
            <a:ext cx="400680" cy="316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795840" y="6261120"/>
                <a:ext cx="457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822920" y="6259680"/>
                <a:ext cx="453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140360" y="2925720"/>
                <a:ext cx="26668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LCM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709560"/>
            <a:ext cx="936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Use prime factorization to find the </a:t>
            </a: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LCM</a:t>
            </a: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 of each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69880" y="3846600"/>
            <a:ext cx="9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0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403360" y="1284120"/>
                <a:ext cx="22957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427120" y="2011320"/>
                <a:ext cx="1589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511200" y="1116000"/>
            <a:ext cx="19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. 50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3360" y="1892160"/>
            <a:ext cx="99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5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72160" y="3854520"/>
            <a:ext cx="92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5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9" idx="2"/>
          </p:cNvCxnSpPr>
          <p:nvPr/>
        </p:nvCxnSpPr>
        <p:spPr>
          <a:xfrm>
            <a:off x="5237280" y="4768920"/>
            <a:ext cx="65448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1" name=""/>
          <p:cNvCxnSpPr>
            <a:stCxn id="189" idx="2"/>
          </p:cNvCxnSpPr>
          <p:nvPr/>
        </p:nvCxnSpPr>
        <p:spPr>
          <a:xfrm flipH="1">
            <a:off x="4557240" y="4768920"/>
            <a:ext cx="68040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349880" y="5307120"/>
                <a:ext cx="4158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83320" y="533556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511440" y="1173240"/>
            <a:ext cx="55080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47880" y="2886120"/>
            <a:ext cx="21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LCM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017880" y="2930400"/>
                <a:ext cx="4683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506920" y="2895480"/>
                <a:ext cx="15908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98" name=""/>
          <p:cNvCxnSpPr/>
          <p:nvPr/>
        </p:nvCxnSpPr>
        <p:spPr>
          <a:xfrm>
            <a:off x="1978200" y="4770360"/>
            <a:ext cx="65448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9" name=""/>
          <p:cNvCxnSpPr/>
          <p:nvPr/>
        </p:nvCxnSpPr>
        <p:spPr>
          <a:xfrm flipH="1">
            <a:off x="1298160" y="4770360"/>
            <a:ext cx="68040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090440" y="530856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300400" y="5337000"/>
                <a:ext cx="6634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02" name=""/>
          <p:cNvCxnSpPr/>
          <p:nvPr/>
        </p:nvCxnSpPr>
        <p:spPr>
          <a:xfrm>
            <a:off x="2717640" y="5954760"/>
            <a:ext cx="42480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3" name=""/>
          <p:cNvCxnSpPr/>
          <p:nvPr/>
        </p:nvCxnSpPr>
        <p:spPr>
          <a:xfrm flipH="1">
            <a:off x="2316960" y="5954400"/>
            <a:ext cx="400680" cy="31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008080" y="6262560"/>
                <a:ext cx="455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056040" y="6240600"/>
                <a:ext cx="4125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73280" y="2913120"/>
                <a:ext cx="20131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LCM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709560"/>
            <a:ext cx="936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Use prime factorization to find the </a:t>
            </a: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LCM</a:t>
            </a: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 of each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57440" y="3846600"/>
            <a:ext cx="74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638440" y="1274760"/>
                <a:ext cx="15922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657520" y="2052720"/>
                <a:ext cx="224460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511200" y="1116000"/>
            <a:ext cx="19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. 9</a:t>
            </a:r>
            <a:r>
              <a:rPr b="0" i="1" lang="en-US" sz="5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800" spc="-1" strike="noStrike" baseline="5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60640" y="1892160"/>
            <a:ext cx="161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7</a:t>
            </a:r>
            <a:r>
              <a:rPr b="0" i="1" lang="en-US" sz="54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84680" y="3854520"/>
            <a:ext cx="92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7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4" idx="2"/>
          </p:cNvCxnSpPr>
          <p:nvPr/>
        </p:nvCxnSpPr>
        <p:spPr>
          <a:xfrm>
            <a:off x="4249440" y="4768920"/>
            <a:ext cx="65484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6" name=""/>
          <p:cNvCxnSpPr>
            <a:stCxn id="214" idx="2"/>
          </p:cNvCxnSpPr>
          <p:nvPr/>
        </p:nvCxnSpPr>
        <p:spPr>
          <a:xfrm flipH="1">
            <a:off x="3569760" y="4768920"/>
            <a:ext cx="68040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362400" y="5307120"/>
                <a:ext cx="4158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695840" y="533556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19" name=""/>
          <p:cNvCxnSpPr/>
          <p:nvPr/>
        </p:nvCxnSpPr>
        <p:spPr>
          <a:xfrm>
            <a:off x="4948200" y="5932440"/>
            <a:ext cx="42480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0" name=""/>
          <p:cNvCxnSpPr/>
          <p:nvPr/>
        </p:nvCxnSpPr>
        <p:spPr>
          <a:xfrm flipH="1">
            <a:off x="4547520" y="5932440"/>
            <a:ext cx="400680" cy="316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259160" y="624060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286240" y="6238800"/>
                <a:ext cx="4129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3094200" y="1176480"/>
            <a:ext cx="55080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26000" y="1158840"/>
            <a:ext cx="55080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7880" y="2886120"/>
            <a:ext cx="21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LCM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938320" y="2932200"/>
                <a:ext cx="177984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676920" y="2824200"/>
                <a:ext cx="22924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28" name=""/>
          <p:cNvCxnSpPr/>
          <p:nvPr/>
        </p:nvCxnSpPr>
        <p:spPr>
          <a:xfrm>
            <a:off x="1978200" y="4770360"/>
            <a:ext cx="65448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9" name=""/>
          <p:cNvCxnSpPr/>
          <p:nvPr/>
        </p:nvCxnSpPr>
        <p:spPr>
          <a:xfrm flipH="1">
            <a:off x="1298160" y="4770360"/>
            <a:ext cx="68040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090440" y="530856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424240" y="5337000"/>
                <a:ext cx="4143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595760" y="2898720"/>
                <a:ext cx="2104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64200" y="1407960"/>
                <a:ext cx="1404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898880" y="2203560"/>
                <a:ext cx="14511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5111640" y="1197000"/>
            <a:ext cx="55080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13352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54/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1-16T16:15:42Z</dcterms:modified>
  <cp:revision>84</cp:revision>
  <dc:subject/>
  <dc:title>Slide 1</dc:title>
</cp:coreProperties>
</file>